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54155-40AF-4532-A4E3-E6D5FDED3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EFC33-4593-4227-B632-1306E043A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FB1BB-EA6F-4B7E-BB4B-1459822BB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CC310-F358-4C0D-A348-2765FC9A5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B0FA0-381F-406C-AE81-3119D8AE1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14C92-8EFD-484A-8CA5-FCC962946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D4F3D-0811-4A32-8B2C-6133D4A19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D2B5D-9501-4E81-BCE7-3E9F2424E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16C67-028F-4ADF-908E-F5805C9DC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01EA1-BA9E-4CCA-8B8A-1DA481B12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476E0-223B-41EF-8F53-74BDCA7B8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A18F8-4041-4044-8047-AB5D925B7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3867B-EA41-4223-B971-850B44340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C472E-616F-44DA-9681-32C4732B9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FF805-CC30-4CF1-8210-D4C2E35AC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43819-B483-4AE5-A6A6-5ED38F117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F67BF-02B3-4B1A-909F-023915F58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BA782-BEC0-43FE-90EF-3DD20A47B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857EE-DB54-4EA0-9F5B-5688ECFDF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07F55-7CCC-4E91-8E66-8A1A56E5D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2943B-2F5D-4277-B9D4-0AC4A5736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FF337-2C06-409C-A7A9-72D4693A1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F4058-02B0-4387-B6D0-A65D7E0AC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DE0C8-7894-41DB-A46D-0F96F200F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C4598-D72F-4B6C-B13E-2F34D76B545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09BF9-76EC-43F5-9CD2-0FE42AFDFAF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Дорожные </a:t>
            </a:r>
            <a:br>
              <a:rPr sz="3400"/>
            </a:b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ситуации – «ловушки»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1905120" y="1828800"/>
            <a:ext cx="5410080" cy="4060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00100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Ловушки” середины дорог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3927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Пешеход, находящийся между потоками движущихся автомобилей, сильно испуган и его поведение хаотично и не поддается логике и прогнозу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Обзор могут закрывать стоящие рядом пешеходы. От большого количества мелькающих рядом автомашин может закружиться голова, и пешеход потеряет равновесие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"/>
          <p:cNvSpPr/>
          <p:nvPr/>
        </p:nvSpPr>
        <p:spPr>
          <a:xfrm>
            <a:off x="685800" y="2743200"/>
            <a:ext cx="792468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rcRect l="45026" t="28519" r="3031" b="9096"/>
          <a:stretch/>
        </p:blipFill>
        <p:spPr>
          <a:xfrm>
            <a:off x="5562720" y="1752480"/>
            <a:ext cx="2938320" cy="342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34084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Ловушки” при движении вдоль проезжей части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770256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В эту ситуацию пешеход может попасть, если идет по дороге в нарушение правил дорожного движения, то есть по ходу движения транспортных средств. В этом случае движение автомобилей происходит со спины, и пешеход не видит опасность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Автомобиль на скользкой дороге может вильнуть, или груз выступает за борта – все это грозит пешеходу травмами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Ловушки” закрытого обзора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3927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Это дорожные ситуации, когда опасность скрыта от пешехода за кустами, деревьями, забором, сугробом, стоящими и движущимися автомобилями, другими пешеходами. Обзору дороги могут мешать повороты, спуски и подъемы самой дороги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5105520" y="3886200"/>
            <a:ext cx="3581280" cy="227664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5105520" y="1523880"/>
            <a:ext cx="3581280" cy="226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534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Ловушки” в зоне остановки маршрутного транспорта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2590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В зоне остановки попадает в ДТП треть пострадавших детей, в основном из-за стоящих маршрутных транспортных средств – большой помехи обзору на дороге и спешки пешеходов или пассажиров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rcRect l="0" t="981" r="13762" b="0"/>
          <a:stretch/>
        </p:blipFill>
        <p:spPr>
          <a:xfrm>
            <a:off x="4114800" y="2152800"/>
            <a:ext cx="4419720" cy="303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800100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Ловушки” на пешеходном переход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3927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Обычно думают, что пешеходный переход – это безопасная зона, на которой с пешеходом ничего не может случиться. А ведь и здесь остановившийся автомобиль может скрывать движущийся, равно как и проехавший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4800600" y="1676520"/>
            <a:ext cx="3886200" cy="20955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4792680" y="3941640"/>
            <a:ext cx="3894120" cy="203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264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Ловушки” на углу перекрестка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3927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Опасность на углу перекрестка состоит в том, что автотранспорт может поворачивать направо, при этом и водителю, и пешеходу горит зеленый сигнал.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Иногда задние колеса автобусов, грузовиков, прицепов оказываются очень близко к тротуару, бывает неопытный водитель выезжает на “бровку” тротуара, к тому же автотранспорт может быть с прицепом или буксировать другой автомобиль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"/>
          <p:cNvSpPr/>
          <p:nvPr/>
        </p:nvSpPr>
        <p:spPr>
          <a:xfrm>
            <a:off x="685800" y="2743200"/>
            <a:ext cx="792468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4640400" y="2544840"/>
            <a:ext cx="3927240" cy="268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800100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Ловушки” у светофор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3195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У светофора, нельзя забывать, что на дороге могут возникнуть самые непредвиденные обстоятельства, например, поедут на красный сигнал спецавтомашины (скорая помощь, милиция, пожарная); могут быть и водители, нарушающие ПДД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Нередко и сами пешеходы, как взрослые, так и дети, переходят дорогу на красный сигнал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"/>
          <p:cNvSpPr/>
          <p:nvPr/>
        </p:nvSpPr>
        <p:spPr>
          <a:xfrm>
            <a:off x="838080" y="2895480"/>
            <a:ext cx="7925040" cy="28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4114800" y="2057400"/>
            <a:ext cx="4876920" cy="307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Ловушки” отвлечения внима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8530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Пешеход не замечает опасность, потому что его взгляд прикован к интересующему его предмету – автобус на другой стороне дороги, приятель, мяч, собака, лужа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К дорожным “ловушкам” могут привести и еще два изобретения – плеер и мобильный телефон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rcRect l="0" t="0" r="0" b="5202"/>
          <a:stretch/>
        </p:blipFill>
        <p:spPr>
          <a:xfrm>
            <a:off x="4876920" y="3962520"/>
            <a:ext cx="3581280" cy="20574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rcRect l="19171" t="2190" r="5766" b="0"/>
          <a:stretch/>
        </p:blipFill>
        <p:spPr>
          <a:xfrm>
            <a:off x="4876920" y="1676520"/>
            <a:ext cx="3593880" cy="2139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3160" y="380880"/>
            <a:ext cx="8001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Ловушки” понижения внима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44625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По дороге, окруженной жилыми домами, зеленью,  редко проезжает транспорт, и создается ложное представление об отсутствии угрозы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У водителей тоже притупляется внимание, и они едут быстрее обычного, не предполагая появления пешеходов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Такие дороги часто становятся любимым местом роллеров, скейтбордистов, а также для различных игр, катания на санках и коньках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"/>
          <p:cNvSpPr/>
          <p:nvPr/>
        </p:nvSpPr>
        <p:spPr>
          <a:xfrm>
            <a:off x="838080" y="2514600"/>
            <a:ext cx="792504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5181480" y="2362320"/>
            <a:ext cx="3702240" cy="2417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Ловушки”, подстерегающие возле дома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51920" y="1752480"/>
            <a:ext cx="4800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Нельзя выбегать, не осмотревшись, из-за стоящего транспорта. Если возле дома стоит автомобиль, необходимо помнить, что он может поехать вперед, не подав сигнал, или, что опаснее, – задним ходом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Особенно опасны грузовики-фургоны, такси и автомобили скорой помощи. Водителям грузовиков трудно наблюдать и замечать пешеходов. Такси и “скорая помощь” часто спешат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Проезды у домов часто становятся местом для игр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5486400" y="1600200"/>
            <a:ext cx="2971800" cy="22003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5486400" y="3962520"/>
            <a:ext cx="2971800" cy="23335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Галина</cp:lastModifiedBy>
  <dcterms:modified xsi:type="dcterms:W3CDTF">2010-04-06T05:06:20Z</dcterms:modified>
  <cp:revision>3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